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65A-5F63-4526-8F0F-D5A9132B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8196-3E72-4C83-A949-545FE8D1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92608-6876-47B4-901D-F5CC2CF4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73E88-E0ED-4178-91E9-2DE5BD27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CFF12-EC2E-43B7-B29D-3017F774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DCF46-06EF-4AAC-A1AF-091DDC33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26A8A-1071-4302-961D-581FDD17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9303C-15F4-4C7B-AD9C-3A9C1320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57B67-5BE6-4858-9A24-A5AE2759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24C38-9182-40EF-B038-4965DCBA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5B64C-714F-4B42-A35A-126280F9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D28C4-5F48-4275-8DB7-7C0318E5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DF5-A554-422E-847B-1635FF5F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82159-4FCF-4667-8EBC-68470F24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58B97-8DEF-4C15-B8B3-A205DA64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F2B9A-2EE2-47BB-AD7A-263A16D6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A6259-0D52-445D-8DEA-EC902A8E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EBE78-ECA3-4955-8748-BDED3CD8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51528-177D-449F-BB11-B4B73D00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6ACE7-5A0C-46FA-9E5A-81BF61CF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F9CF3-0392-47C7-95B1-AAF24769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8F31D-003C-4E5B-8B4C-D36E54D7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55B0D-8F15-4F22-95DD-F8BCC001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172-BBEE-4D09-81F1-169B61E7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C1CC1-52A8-4706-A419-0CF2326F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CE127-3325-4549-A86E-2D4C2B1F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BF669-7138-432C-836B-7318A5E8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9273B-C14D-4042-B4D7-3C867643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8899A-E32A-4471-926F-3DC7D6E8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B2AE1-D0FF-4BE0-8D7B-785C4A88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C6CAA-4AFB-43DA-8ABA-6394D79B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131B8-1B03-4205-A284-D8E6D400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3B492-8752-4072-88F1-4E557FBA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541CE-7E71-440A-8D0C-77FFADB8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7964-57A9-4310-A199-40134C23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1F91B-5E43-47F9-B82F-01ABFA7E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CD2B9-0BB5-4699-A534-351575D6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B9728-6DCA-4060-A8A5-50AE8107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D2C25-EB75-4BE0-9CA8-4B7B123E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D47AA-A200-4E75-87F9-3F3B0E9B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CA1D0-1C89-4241-A9AC-C22FF1F8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726D0-7AD5-4AA9-94A4-6C052326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0904D-D5D5-4609-81A7-6207314E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DB469-F5CB-4D71-8922-341B83F1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653D2-612B-40B6-ABE4-9FDD3221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17D1-DE1B-454A-9008-01090F03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3593D-97D2-474A-8A5F-0D625901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2A1AE-9267-412F-9628-37B2DD98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4CA0D-12B6-4301-952F-BF2A00A3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B471A-E7E3-4C32-B23C-86E73DAE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8B4B8-5A55-4055-9816-3654C862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0EEC0-7FEA-4657-A69D-6D6A36F5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D3E1B-CAE3-4EB4-BC08-A670D4CF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86B41-2F02-40C1-8393-1D2B0372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560CE-8416-42F5-BC3F-193066F4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4FF38-4BC4-419A-8F26-3F824226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F62E-66CA-4715-B848-3C54FAA9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2FCAB-FD86-48E5-8FAA-371BE349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C9AEF-AABD-47F4-909C-F637DF22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D50BE-1EC0-46FB-BAFE-86757E48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EFEED-7A2A-43AE-9C2F-070AD423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A7B11-6C66-48FF-B553-C86D6366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C903B-9643-4377-AE03-2728BBB3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F2529-663D-4191-9254-F912233F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4BEB4D-1ECF-4ABA-B400-8D871008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ED5BF-17D5-479E-9B5E-F5C347E5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767D1-CF36-4CAD-8E51-E03569D1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A226-C88D-4A43-84AC-BB4DF6F5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60715B-CBBD-4B4B-92F8-23914EA9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A1BFA-700E-4833-9719-DDCE524D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584FD-3C1C-48BB-9F5A-8D90133B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BE6314-C9F5-4D16-BF3A-2A04A7BB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7E46C-2C26-4BCA-BF27-8EBDA68D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751F11-77F2-4CE2-8BD6-AED1C74E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E3506C-D493-4436-9E17-81557387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725BC-FBE3-4927-8043-76506095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A4321-5E7F-450B-878C-3BDFAA21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94D644-F577-4BB8-8787-79BFF163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02CD-04E4-40A3-A882-30CD1524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4CAA6-0FA3-4769-A6BE-2D49BF37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56314A-A4BB-48BC-9E78-9FAD6E8F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B4AFE-16CD-47BF-B599-4DD9C44E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58EF8D-C260-4DE8-B66B-3A8CBF00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0BDFDA-F381-485E-BFB0-FDE539E1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E0777C-97BC-4D38-8535-FE796C97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92FBC2-83D6-4E2D-BDBE-E487327B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987E25-6E29-444F-BF3D-8FA3FBA5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C27FB-F99D-435F-BD07-18800B66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8A0078-C6A3-43E2-AFE8-C1041AFB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21A4-443A-41D7-A584-0E602675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550FF2-DA1A-4FD6-BC9D-DAD74F03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857CF-4D36-4CB4-8B67-C3E46F80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CE7255-AA8F-43C3-9C55-5B3F71D7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F4B00C-D091-4CC6-95B1-3C33CAB3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92AFF-1FD3-4A20-A7A9-0FA74BFD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ABD029-7466-4E2E-B427-15000444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E91289-E916-4217-9DBA-C2C3210A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1D0B4E-E59D-4FAA-8E9E-8C48323E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00DF87-D36D-4376-9B5E-54574E33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8113AD-F563-48F5-B3E0-182CF277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8419-0010-404E-BAF1-5AF7A51E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623E10-407A-48D6-B7C2-E54DCF08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47AB2-7D82-4EDD-A6F9-04BE1C68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09123-F2FD-4743-BEE2-74F2FD86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51C10-0CB8-48DD-8489-580DB983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806833-C424-4944-96D3-AB607628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8331D7-9CE3-461C-86CD-72432D35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791707-8062-4020-B97E-4513B97E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E39A74-B09B-4A64-BF1F-2E3303AA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4E8AF1-E384-4F5E-9CE5-2AF6A1A0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D7F1EA-6734-40DB-B81E-4205C4EB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261-E768-4FB2-B674-4636B9D9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7742-EC78-42FA-8DE4-09AFA4BB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B44289-1E0C-4505-8F99-8D4846ED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88F51-029D-496C-8EBF-231A050B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F3F20E-D019-4A12-A23F-F842B8D6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5DD1AA-CD44-4411-A860-DF250225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203FD9-80CD-4CA4-B903-1848DFFB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B635FC-0F98-4AD5-B863-10AB0D12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8708D9-ABC3-44E2-BFE9-AEA0828E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86A332-C3D4-465E-B933-3E6B157D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30D89D-048B-4C23-A2BA-7C7C58AD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6B7467-6363-4FF9-B672-CD545FC8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68E9-8246-4B95-9B8B-A39B8EB0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F8074C-DB21-46CA-9D4A-C6CFA807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6A82A4-BF2A-45F2-A6AA-EA8EB4DC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D1377-8127-4F0D-ABD2-9EEBD500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A677FB-B5D0-4FA1-9E27-85E789AA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B75B7C-3519-41E0-B5E0-7215EDB0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38F763-3DDA-4F75-9A4C-15B72691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C8C825-CE2A-4D30-AE9A-9693FF63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3F8648-D2A7-4E32-ADF3-19742F26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621B5A-D7DB-427B-BD14-3DE811AD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48BAA2-87F1-4D76-AB69-722464C8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EB63-330F-4845-A4FB-292368F3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4D1A88-2CF6-49B1-861C-E154138D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B4E702-7A8D-4C92-8E5E-7E89F730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4F1F31-B787-4E43-9B5A-BBFB0047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2D31B4-B66A-47F0-93D6-7732A526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492C21-251C-4E07-ACEF-6218889E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CAA52B-BDF1-4F41-A5BA-6B93B049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4272C2-6D82-4021-BF10-313C8BE8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9272AD-353B-4F84-B4FD-F307894A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2EE1AE-5FF5-44FE-BF05-D11ACBFA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FF1611-1E0D-4E62-BCEF-E36D65AB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D801-F27A-44AE-9E5A-3A909264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1ADF10-0062-4098-A694-6855A2E0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A9E8A5-FE48-4D76-A88B-06A3E03F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CB56DB-BF93-4264-8F49-2FDF6272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DCF46E-6BEB-4895-A165-3E5FE341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1DEABE-98A4-4398-928A-0DE36971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1F7374-75AE-4E66-A461-D5714DEE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3C55CB-D211-4D25-911B-4BB11EC4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03F7D2-D68B-435F-A8BD-432A2184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7AC918-2D9D-4537-944D-A5A81627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B03394-D7ED-4F2E-A172-85867251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39C4-1A04-4B06-8636-37CD7798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2C1B6F-9635-4FAA-B29D-C1700BA5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172D81-894E-4DF1-99D1-30DE818B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A59F82-6582-4929-A98A-061F0B27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4EEEB5-C31C-4B0F-9384-A1D275BA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3C8D0D-A02C-45A5-955C-1381BF58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E91321-7C75-4D68-B926-3FE7F90B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B7E2F0-E71C-4047-8702-9EB8BF0D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2E828C-C2C3-476E-BEDD-D39CFC55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B8AD04-A17F-478D-8579-8DB78A48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11472F-6C78-4F8A-A84A-5FD8E3C6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FBD3E-0CFA-4CDE-9584-DBEC0750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395268-5189-4000-AD4A-6949F0F0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646C1D-9930-4889-B54A-FAFC7792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F2828E-7E1E-49D2-8EA5-1ECBCAB3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5396-C178-4695-936E-55BE4C79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1DCA1-C023-4E16-84B5-26E02F3B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7E00B-818C-408A-AFA6-A7E8E1E8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7AEC3-C975-4B72-9B7D-526D0E85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5560-851D-40CC-8C1D-4C741A3C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AB555-AD01-4F32-B8B6-31759F10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C874-2E3E-4024-B5FA-837762B2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D9E79-E24E-479E-A0B8-5D6421BD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80894-581D-484F-82B5-07DF9372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C227A-E25F-465B-A883-829BBCE2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615D-A7D3-41C8-AB06-D92E27ED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6DAC6-8415-4452-842A-36F68EF5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C23E0-EE5C-4A1A-B3CF-3793B4AA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90750-7D1D-48E5-8157-BE8B7BC5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ACA3F-A66F-41B6-9D83-CC4B773B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9CA-BE1E-4782-A7DD-5A3AF01E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78E4C-A5F0-4378-AC07-4FCE6AE8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C6792-6010-4815-9F7B-993D3F2A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485E8-9667-4891-8463-0BDA5AE9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D8DCC-79FD-4D8B-911F-5647D634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5211A-D37C-4F1D-8CA7-617DC40E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6DD82-C716-4F23-9DE1-C1D0CBC1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2EDC7-E3DD-4FB6-A957-51C04A9D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840C1-AEC9-4CD1-998F-5B04520B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ACEBE-6E40-4294-8079-9151E377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BB60D-FEC8-4695-A3B0-D3337FF1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045-251A-46B8-A3BE-2794D635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5E8A0-C75B-41EC-B62A-4DEED461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2791D-4C8C-4FC4-8A79-AC092C1C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827F0-0705-42F4-BD9E-05047AF8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57FA0-DCD7-4075-BDD5-93A162FA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0AF80-9B36-47D3-9E15-E2613BA2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4C230-9989-427B-BF4C-C5BB2721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39474-BAFD-4AC1-AA9E-0E350B1B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BDBFF-3094-45A4-808C-1FF26DD9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28B59-0BD3-4280-9300-62477CB2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6AF23-1331-48E4-973F-CB13C6FE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342-8A69-4A6A-B84A-5C838366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22899-785C-4EDE-B573-D3F2627A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10201-09FC-4861-B60A-BCA04A10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7B25E-98E8-473B-ABA1-D1421847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26C7B-9BD3-42D5-B8B9-0C1C5E2E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7884D-73C2-4230-86ED-2147EAD5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29A97-C601-405A-ACBC-F6DD1D2F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77C22-AE45-469A-8C50-C2EB7C50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A8AAC-30B2-4B38-9AF4-D18AFAB0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4D46B-F726-4A9D-B659-2D024A72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75970-3C26-4A15-B116-B9D908BB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845-D862-4E5B-B40D-7FA30617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FF058-A145-4A1A-ABBA-C69543CA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66ACF-9F3B-4944-B0F5-A0126AE5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77747-ED1B-4008-B6C1-08F3C5CF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534D1-E6F2-47AF-B6CB-6D6DC4B2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B0E0B-FE4E-4AF9-B42D-8411E577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EB699-927B-4B4F-9A2A-1F4E6FF1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F4771-EFE1-47DD-A744-50679ABE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86BB3-24FC-4412-821C-A11B33D2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546B4-5A28-4B02-BE41-8C122ED2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10765-129C-41E8-8011-27CD3AFE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F5B-18C7-4165-8560-15CF1097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86245-3531-4FAD-B0FB-BDCC9DE0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39701-A7A9-42B6-9C21-3969D510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9AC39-657C-44FD-9F83-9708EA9C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935A7-263C-485C-A6AE-620158DD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3D2EB-196E-41CF-9BB7-1AEF5476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D53EA-F7B6-4EBE-8E87-487DDF18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4CC19-BCB9-47A3-8608-F3BD6039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89A1A-D123-4213-A59F-7B193692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9EEB6-EFF2-4A5B-834F-F291FCC4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50FCE-4A2F-4F95-9EA4-C6967DC6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862-FBE2-4632-98C8-582E5E9A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6334A-FA76-401C-A1B1-55C200A3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D0462-EC1E-47E5-8A9F-5802A137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AD6F6-B20E-4F00-A8F7-7FED4D75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6D0F1-D06A-4ECB-9DC3-DEB03E37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E56EA-D8D2-4846-BEF3-6BBBF456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F3B0C-20C5-42A2-A2BD-9CD84DD8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C06E3-E4B9-4124-AC1D-C7CECD3F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EAB43-4394-4749-A64A-C7A79531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74884-C752-43C9-B8DA-33E467C4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39EC3-FB57-45C7-8610-269DCDC1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5034-5BA8-4CC0-AA51-AA735304FF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D8FF-EFF1-4208-82DE-4543F2B617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5E22-2348-445F-96F9-913AD0E6C6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F9AD-FDEC-430F-874E-2CDA5DB305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EC82-911C-4E6A-B12F-7FC9906F75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F1B9-F71D-4DFE-9DC2-DACA5E2763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3BAC-3F2C-4C44-8C76-36B4DAF134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7476-DEC6-47D7-B55E-3861D847B6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BA41-FB22-4C5D-9E49-43F42CA326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878D-D639-4BA8-9CE6-4577827978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094A-7794-40E0-B362-59F11FC449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487E-76EF-40A5-9F86-ABC3530F4B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517B-56E4-4F2A-9059-1F9CCB0837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F820-1CE8-4FCE-9810-829FF24E0B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B050-0755-46CE-A032-57F646E47E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DD18-3D86-4DD9-B8A6-7FEF1D84CE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D943-D172-40F4-AD63-EE31D58713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03D1-A639-4DA4-BC88-954F9A9620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104F-EBB3-4CD5-9EA3-E2A4D587F7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40E1-FA1A-457E-9749-0E5F3B3019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C1BA-6946-479F-AFC3-7C382DE634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24D6-CD0F-41C6-9B29-E6807FA9CF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0E61-624B-44C4-A652-62B5318C07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59BC-50C1-4E9E-9D2F-26B56E59C0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6705-66CA-48D6-84D2-2E91269B00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B83C-3091-4483-B2EC-97C11A3245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15D7-0703-4290-9797-CD732464AF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4024-B7B2-4A83-BC70-AC78BB251D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0961-582D-471E-938F-6DF6C414E8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9C3B-0644-4B0B-9157-A85E6B4DEC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480C-31C4-4620-9818-35EFF1EE25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69B4-160B-4D99-AF30-647AF55D92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8571-8A33-4007-8E6E-CBA564D951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776C-1F22-4983-BDC6-2BF27CBDA2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DC49-4DE2-40E6-8DE3-4A73863645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D089-BB2F-4BFE-ADC2-57EC8A05DF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DD4B-9CA9-4B1C-AA29-F7F9FC6F0A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103D-E6FE-4F31-B48C-6209199B2B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9D4F-2A97-4856-A7C6-0F6A3D0D0F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7484-DEF9-43DD-82BB-78C809D625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10000" y="3219480"/>
            <a:ext cx="392400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组合 60430"/>
          <p:cNvGrpSpPr/>
          <p:nvPr/>
        </p:nvGrpSpPr>
        <p:grpSpPr>
          <a:xfrm>
            <a:off x="324000" y="947880"/>
            <a:ext cx="8415360" cy="5073480"/>
            <a:chOff x="324000" y="947880"/>
            <a:chExt cx="8415360" cy="5073480"/>
          </a:xfrm>
        </p:grpSpPr>
        <p:pic>
          <p:nvPicPr>
            <p:cNvPr id="923" name="图片 60428" descr=""/>
            <p:cNvPicPr/>
            <p:nvPr/>
          </p:nvPicPr>
          <p:blipFill>
            <a:blip r:embed="rId1"/>
            <a:stretch/>
          </p:blipFill>
          <p:spPr>
            <a:xfrm>
              <a:off x="404640" y="947880"/>
              <a:ext cx="8334720" cy="49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图片 60429" descr=""/>
            <p:cNvPicPr/>
            <p:nvPr/>
          </p:nvPicPr>
          <p:blipFill>
            <a:blip r:embed="rId2"/>
            <a:stretch/>
          </p:blipFill>
          <p:spPr>
            <a:xfrm>
              <a:off x="324000" y="5300640"/>
              <a:ext cx="2581200" cy="72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900000" y="1959120"/>
            <a:ext cx="2303640" cy="318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971640" y="2276640"/>
            <a:ext cx="302400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971640" y="3182760"/>
            <a:ext cx="2303280" cy="319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1042920" y="3500280"/>
            <a:ext cx="3024360" cy="3193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684360" y="4422600"/>
            <a:ext cx="2303280" cy="319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755640" y="4740120"/>
            <a:ext cx="30243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组合 59412"/>
          <p:cNvGrpSpPr/>
          <p:nvPr/>
        </p:nvGrpSpPr>
        <p:grpSpPr>
          <a:xfrm>
            <a:off x="138240" y="1125360"/>
            <a:ext cx="8867520" cy="4380120"/>
            <a:chOff x="138240" y="1125360"/>
            <a:chExt cx="8867520" cy="4380120"/>
          </a:xfrm>
        </p:grpSpPr>
        <p:pic>
          <p:nvPicPr>
            <p:cNvPr id="932" name="图片 59410" descr=""/>
            <p:cNvPicPr/>
            <p:nvPr/>
          </p:nvPicPr>
          <p:blipFill>
            <a:blip r:embed="rId1"/>
            <a:stretch/>
          </p:blipFill>
          <p:spPr>
            <a:xfrm>
              <a:off x="138240" y="1352520"/>
              <a:ext cx="8867520" cy="41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图片 59411" descr=""/>
            <p:cNvPicPr/>
            <p:nvPr/>
          </p:nvPicPr>
          <p:blipFill>
            <a:blip r:embed="rId2"/>
            <a:stretch/>
          </p:blipFill>
          <p:spPr>
            <a:xfrm>
              <a:off x="3635280" y="1125360"/>
              <a:ext cx="4105440" cy="86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755640" y="2665440"/>
            <a:ext cx="266400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755640" y="2997360"/>
            <a:ext cx="417672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684360" y="4811760"/>
            <a:ext cx="1979640" cy="318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2916360" y="4811760"/>
            <a:ext cx="1979640" cy="31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755640" y="5143680"/>
            <a:ext cx="7488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8373" descr=""/>
          <p:cNvPicPr/>
          <p:nvPr/>
        </p:nvPicPr>
        <p:blipFill>
          <a:blip r:embed="rId1"/>
          <a:stretch/>
        </p:blipFill>
        <p:spPr>
          <a:xfrm>
            <a:off x="162000" y="1733400"/>
            <a:ext cx="8820000" cy="33912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826920" y="2766960"/>
            <a:ext cx="2449800" cy="3193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826920" y="3068640"/>
            <a:ext cx="3384720" cy="318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5148360" y="2766960"/>
            <a:ext cx="2449440" cy="319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5148360" y="3068640"/>
            <a:ext cx="3384360" cy="318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684360" y="3933720"/>
            <a:ext cx="5616360" cy="3193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684360" y="4235400"/>
            <a:ext cx="3681360" cy="318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8"/>
          <a:stretch/>
        </p:blipFill>
        <p:spPr>
          <a:xfrm>
            <a:off x="539640" y="4565520"/>
            <a:ext cx="5616720" cy="6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10:3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